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954-F137-485B-8828-4AB4366B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BAC-9C1C-4898-8711-DFBE105D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F52-E98E-400C-ADE5-6F484566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2D3-7CEB-47CE-B18B-B5BA29FE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073-7A12-41FB-ACFC-0FBEC24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675-5379-48D0-8193-BD3949B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CFC-E63F-411B-8A4C-F63ACD08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B01-E479-4C7D-A438-23C1BD8E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466-A016-40B8-8BB9-84AF3A21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269-EF91-4ACE-A5D8-1BAB819C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F68-82A8-4F9C-961A-BB15285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C7A-A0FF-485B-A86D-3DD4748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306-E1E6-44FD-966D-8E3C9ECE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ompanies such as News Corporation expect some sort of return on their invest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owning all or a majority of the voting stock of another corporation is called a parent compan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 are debt investments that a company intends to hold until their maturity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419720" y="1905120"/>
          <a:ext cx="463536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905120"/>
                    <a:ext cx="463536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rent trend for the Financial Accounting Standards Board (FASB) is to adopt accounting principles using fair values for valuing and reporting assets and li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737240" y="2006640"/>
          <a:ext cx="425448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7240" y="2006640"/>
                    <a:ext cx="425448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22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uld not be a strategic purpose for long-term invest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01440"/>
            <a:ext cx="41148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chase of bonds as an investment is record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ing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ing Bond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ing Inves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ing Bond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investor purchases less than 20% of outstanding stock of the investee, the investment is accounted for usi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84600" y="1841400"/>
          <a:ext cx="440712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1841400"/>
                    <a:ext cx="4407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41148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fair value of the portfolio of trading securities are recognize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income or expense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inary gain or loss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traordinary gain or loss for the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realized gain or loss for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equity method, how do net income and dividends affect the investment accou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de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increases it and dividends decreas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come decreases it and dividends increa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lance in Unrealized Gain (Loss) on Available-for-Sale Securities is re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648320" y="1828800"/>
          <a:ext cx="44067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28800"/>
                    <a:ext cx="44067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49568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in exp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in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i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in stock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not a disadvantage of moving to fair value accoun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5720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rrently generally accepted accounting principles are a hybrid of varying measurement methods which confli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values may not be readily obtainable for some assets or liabilit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r values make it more difficult to companies if they use different methods of determining fair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fair values will result in more fluctuations in accounting reports because fair values change from year to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large companies invest in other companies’ debt and securities for the same reas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valued at amortized c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648320" y="1968480"/>
          <a:ext cx="4209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68480"/>
                    <a:ext cx="4209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-for-sale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-to-maturity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se choices as all are valued at fai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ies that are purchased and sold to earn short-term profits from changes in their market price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813200" y="2095560"/>
          <a:ext cx="417852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3200" y="2095560"/>
                    <a:ext cx="41785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-for-sale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able secu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inancial statements of the parent company and subsidiary are combined and reported as a single company, they ar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62120"/>
            <a:ext cx="8381880" cy="37767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d for cash $40,000 of Tyler Company 10% bonds at 100 plus accrued interest of $3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the first semiannu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$30,000 of the bonds at 102 plus accrued interest of $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y to record the purchase would includ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4724280"/>
          <a:ext cx="7924680" cy="1908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 of $40,320 to C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 of $320 to Interest Receiv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of $320 to Interest Re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of $40,000 to Invest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800240" cy="458640"/>
            <a:chOff x="0" y="0"/>
            <a:chExt cx="4800240" cy="45864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647600" cy="45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523400" y="3960"/>
              <a:ext cx="276840" cy="45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96880" y="0"/>
              <a:ext cx="389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3-1 (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800240" cy="458640"/>
            <a:chOff x="0" y="0"/>
            <a:chExt cx="4800240" cy="45864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647600" cy="458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523400" y="3960"/>
              <a:ext cx="276840" cy="45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96880" y="0"/>
              <a:ext cx="389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3-1 (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3886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of $40,320 to C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of $320 to Interest Recei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of $320 to Interes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of $40,000 to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914400"/>
            <a:ext cx="8305560" cy="469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d for cash $40,000 of Tyler Company 10% bonds at 100 plus accrued interest of $3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the first semiannu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$30,000 of the bonds at 102 plus accrued interest of $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ale of the bonds would include a debit to Loss on Investments of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0" y="0"/>
            <a:ext cx="4876560" cy="459720"/>
            <a:chOff x="0" y="0"/>
            <a:chExt cx="4876560" cy="459720"/>
          </a:xfrm>
        </p:grpSpPr>
        <p:sp>
          <p:nvSpPr>
            <p:cNvPr id="149" name="Rectangle 12"/>
            <p:cNvSpPr/>
            <p:nvPr/>
          </p:nvSpPr>
          <p:spPr>
            <a:xfrm>
              <a:off x="0" y="0"/>
              <a:ext cx="47214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4595400" y="3960"/>
              <a:ext cx="28116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606600" y="0"/>
              <a:ext cx="39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1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23619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57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ler Company had the following bond investment transa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urchased for cash $40,000 of Tyler Company 10% bonds at 100 plus accrued interest of $32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ceived the first semiannual intere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old $30,000 of the bonds at 102 plus accrued interest of $11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le of the bonds would include a debit to Loss on Investments of $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5181480" y="2851200"/>
          <a:ext cx="38102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51200"/>
                    <a:ext cx="38102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0" y="-4680"/>
            <a:ext cx="4800240" cy="459720"/>
            <a:chOff x="0" y="-4680"/>
            <a:chExt cx="4800240" cy="459720"/>
          </a:xfrm>
        </p:grpSpPr>
        <p:sp>
          <p:nvSpPr>
            <p:cNvPr id="156" name="Rectangle 6"/>
            <p:cNvSpPr/>
            <p:nvPr/>
          </p:nvSpPr>
          <p:spPr>
            <a:xfrm>
              <a:off x="0" y="-4680"/>
              <a:ext cx="449244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4372560" y="-360"/>
              <a:ext cx="2674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77080" y="-4680"/>
              <a:ext cx="422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1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787320"/>
            <a:ext cx="8305920" cy="26492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eptember 1, 1,500 shares of Monroe Company are acquired at a price of $24 per share plus a $40 brokerage fee. On October 14, a $0.60 per share dividend was received on the Monroe Company stock. On November 11, 750 shares (half) of Monroe Company were sold for $20 per share, less a $45 brokerage fee. The entry to record the purchase of the shares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3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457200" y="403848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Cash for $36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redit to Cash for $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Investments for $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bit to Investments for $36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952880" y="1905120"/>
          <a:ext cx="41482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905120"/>
                    <a:ext cx="4148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1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267440" cy="46479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Cash for $36,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redit to Cash for $3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Investments for $3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bit to Investments for  $36,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1114560"/>
            <a:ext cx="8305920" cy="37238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anuary 2, Olson Company acquired 35% of the outstanding stock of Bryant Company for $140,000. For the year ending December 31, Bryant Company earned income of $44,000 and paid dividends of $20,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lson would adjust its investment in Bryant Company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4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er the equit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companies such as News Corporation purchase investments for strategic reas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922400"/>
          <a:ext cx="440676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22400"/>
                    <a:ext cx="44067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800600" y="2394000"/>
          <a:ext cx="419112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94000"/>
                    <a:ext cx="419112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3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457200" y="609480"/>
            <a:ext cx="8305920" cy="1613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anuary 2, Olson Company acquired 35% of the outstanding stock of Bryant Company for $140,000. For the year ending December 31, Bryant Company earned income of $44,000 and paid dividends of $20,000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son would adjust its investment in Bryant Company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64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the equity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1676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1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only large companies purchase debt and security invest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there special rules for recording and reporting investments made by compan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917720"/>
          <a:ext cx="448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7720"/>
                    <a:ext cx="448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securities include notes, bonds, and common stock issued by corpo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objective of investing cash in temporary investments is to earn interest revenue, receive dividends, or realize gains from increases in the market price of the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917720"/>
          <a:ext cx="448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17720"/>
                    <a:ext cx="448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749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le of a bond investment normally results in a gai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investor purchases less than 20% of the outstanding stock of an investee, the investor is considered to have control over the inves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841400"/>
          <a:ext cx="44067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1400"/>
                    <a:ext cx="44067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1:19:54Z</dcterms:created>
  <dc:creator> </dc:creator>
  <dc:description/>
  <dc:language>en-US</dc:language>
  <cp:lastModifiedBy>Leslie</cp:lastModifiedBy>
  <dcterms:modified xsi:type="dcterms:W3CDTF">2008-12-30T03:25:10Z</dcterms:modified>
  <cp:revision>52</cp:revision>
  <dc:subject/>
  <dc:title>Are the unusual and nonrecurring items reported for Gaylord Entertainment Co. easily detected on its income statement?</dc:title>
</cp:coreProperties>
</file>